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7A3-E7D9-499C-940E-90B006FA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9A7-C5B0-49F1-8E7B-AAA13101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A4E-2FD2-476C-8F01-36C1A5AB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BE3-0528-46A7-8EC3-A5731F37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863A-695B-41F3-879F-DD7CCD05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715D-0F59-4C65-97E0-244AECD8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CA8-E6C9-4DCB-8DCE-4EEB439F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A17A-DF4E-4C3D-A4CD-2E4E33FC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6D3B-523A-4A8A-B116-56E41517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EAC-D289-4D4F-9549-EB29AD72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C7C-FB57-47E2-A924-53D97B90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22D7-5303-4A59-A789-1A666B8E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C4FA-3BBE-4E37-8532-272591A64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oup 7" descr=""/>
          <p:cNvPicPr/>
          <p:nvPr/>
        </p:nvPicPr>
        <p:blipFill>
          <a:blip r:embed="rId1"/>
          <a:stretch/>
        </p:blipFill>
        <p:spPr>
          <a:xfrm>
            <a:off x="-115920" y="-55440"/>
            <a:ext cx="1305000" cy="1463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828720" y="449280"/>
            <a:ext cx="62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ительные меры социальной поддержки семей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щих дет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11" descr=""/>
          <p:cNvPicPr/>
          <p:nvPr/>
        </p:nvPicPr>
        <p:blipFill>
          <a:blip r:embed="rId2"/>
          <a:stretch/>
        </p:blipFill>
        <p:spPr>
          <a:xfrm>
            <a:off x="6581880" y="111240"/>
            <a:ext cx="1787400" cy="1185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4"/>
          <p:cNvSpPr/>
          <p:nvPr/>
        </p:nvSpPr>
        <p:spPr>
          <a:xfrm>
            <a:off x="1422360" y="6381720"/>
            <a:ext cx="68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Телефон «горячей линии» Отделения ПФР по Приморскому краю: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(423)249-86-0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47680" y="1203480"/>
            <a:ext cx="8645400" cy="524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23:45Z</dcterms:created>
  <dc:creator>000210</dc:creator>
  <dc:description/>
  <dc:language>en-US</dc:language>
  <cp:lastModifiedBy>Вовченко Александра Александровна</cp:lastModifiedBy>
  <cp:lastPrinted>2020-05-13T22:14:31Z</cp:lastPrinted>
  <dcterms:modified xsi:type="dcterms:W3CDTF">2020-05-13T23:49:08Z</dcterms:modified>
  <cp:revision>2313</cp:revision>
  <dc:subject/>
  <dc:title>Слайд 1</dc:title>
</cp:coreProperties>
</file>